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EE4-5C45-46B9-B2AD-4A15C03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F42-F29E-420D-AE44-B0C5323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18F-FB31-4350-8AD0-B047B1F3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7E8-7AA7-4299-8611-5C2CCDED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D5E-0144-4A73-BF7D-4CF956DE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548A-2B0C-4161-B1D1-6ED28771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79D9-C88C-4749-9945-EFAAF891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3831-A0FE-4DA4-8ACB-58761758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BF8-99B0-467D-B1C2-1655D0B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EA51-8236-4059-AF1A-7AEDA88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9123-01E3-48DA-A434-1A3C31E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245-8C65-4130-8F3B-0C35E855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F7A-29B2-4CB3-BBED-C37CB47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524-5A92-4BDF-8134-820EB44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4B9-1061-4141-BDB2-3598696A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479-AAE7-457E-8104-F8033A85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E3A7-0C03-428D-98CF-7F9CB327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B9E-2ED8-4A14-BB8E-D4C4880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291-0F96-4340-B1C0-691EBB5F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C11-3211-4603-8088-69AC878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078-305F-461A-AB1E-D6ACBE4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3EB-2833-4580-B575-0AF5E04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EF6-D02E-4A0F-81B9-4FBE7F6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41E-C445-49A9-AF93-68BF4DED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02F-B9F0-4488-8C77-46611F1C68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6562-A9E4-48D5-A06B-70E91BF0DE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cKenneman, Inc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RAM Propos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Tea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y Hoff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ry Kenn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landa McCulloug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27240" y="182736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1 microns w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same width as bitcell so it can be easily wired to the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Deco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85840" y="182736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2:4 decoders comb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 of these make up 7:128 deco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microns long to connect with buffers to the memory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80960" y="2792520"/>
            <a:ext cx="7290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tatis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 estimated to be 5478 microns by 1415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e Area: 7,751,37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memory array, 7:128 decoder, WL buffers, precharge, sense amps, output buff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 room estimated for registers, tri-state buffers, smaller logic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M Bitcell 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gth of the side of largest square inside cu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 Case: S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65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94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st Case: 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4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79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7920" y="2589120"/>
            <a:ext cx="3995640" cy="2398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5105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case for a SF bit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for a Read/Write/Re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49440" y="1827360"/>
            <a:ext cx="515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Notes R/W/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ine shows CLK and Output of Tri-state buffer after a r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ine show BL(blue) and BLB(re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ine shows Sense Amps firing and their out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line shows WL enabled inside of prech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line shows read/write sign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Access Simul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3200" y="1827360"/>
            <a:ext cx="683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 Approa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ma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p-level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yo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tcell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ipheral and Block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NM simulations of bitc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simul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s Encounte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tric Analy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6 Access for blo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es a one into a block and reads it 5 times for total average power of 31 m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time for D-Q is 15.5 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output is latched on rising clock edge, with 2.5ns to propagate through register and tri-state buff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ck distribu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nough clock delays to fire sense amps at the correct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aying and buffering the prechar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low simulation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ring and reducing lay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ric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power of 1 write and 5 reads: .031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st delay: 13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rea: 32*(7,751,370 microns^2) = 248,043,84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ric= (Watts^2)*(delay in ns)*(area in um^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’s Score=3.099E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, Inc. has developed an efficient and power saving SRAM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voltage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for controllability and observ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ock enable signal power gates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Power SRAM running at Vdd = 2.5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gating on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Mb of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de of 32 blocks of 128x256 bi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2bit words addressed with 15b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oltage sense amp to reduce precharge pow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ing bitcell layout to reduce overall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08200" y="1827360"/>
            <a:ext cx="6975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:128 row address decoder raises the W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:8 decoder selects the 32 columns to when writing to the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itline has a sense amp to reduce the time each WL is enabled and reduce the amount of prechar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hain of 32 8:1 muxes after the sense amps selects the word on a read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register latches the block output and is wired to a tri-state buffer, allowing all blocks to share one SRAM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8200" y="1827360"/>
            <a:ext cx="72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bits of address choose the blo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, Write, and input addresses are held by regis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ying the philosophy of designing for controllability, precharge and sense amp enable are pinned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ing for observability, a sense amp’s output is pinned out for timing ver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1600" y="1965240"/>
            <a:ext cx="683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: 19.8 microns by 8.4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: 166.32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 is saved in the array by overlapping mirrored bitcells every other row to share ground and vdd connec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4:05:04Z</dcterms:created>
  <dc:creator>ITC Labs and Classrooms</dc:creator>
  <dc:description/>
  <dc:language>en-US</dc:language>
  <cp:lastModifiedBy>ITC Labs and Classrooms</cp:lastModifiedBy>
  <dcterms:modified xsi:type="dcterms:W3CDTF">2007-12-06T18:27:41Z</dcterms:modified>
  <cp:revision>5</cp:revision>
  <dc:subject/>
  <dc:title>McKenneman, Inc. SRAM Proposal</dc:title>
</cp:coreProperties>
</file>